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2999-3A83-48B5-A8B3-07D76DC423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ough presumably in the best constitution most good citizens would be goo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o is a citizen depends on what the regime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 oligarch and the democrat both make claims about what the “common good” is that are incorrect but have som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 many may be individually ignorant but together 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Here the </a:t>
            </a:r>
            <a:r>
              <a:rPr b="0" i="1" lang="en-NZ" sz="1200" spc="-1" strike="noStrike">
                <a:solidFill>
                  <a:srgbClr val="000000"/>
                </a:solidFill>
                <a:latin typeface="Arial"/>
              </a:rPr>
              <a:t>polis 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s viewed in “functional” terms as whatever community provides for the goo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n this sense, we can say that on the social contract (e.g., that of Hobbes, which we will study) view the city is not natural at all: it is an invention or artificial construction devised to constrain certain natural tendencies that we have to harm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s Aristotle right that the city – the political community – should be promoting the good character of the citiz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o we ourselves care about the good character of our fellow citiz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onsider student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Note who this definition excludes: people who cannot take part in the key judicial and deliberative bodies are excluded from citizenship, people who are always ruled, but never ruled (e.g., slaves, metics, wom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051-B421-4A2A-BB4A-9C99A666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CDC-B46A-4E44-894F-6163C410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43D-FD59-4C7A-A364-B8B59471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1ED-D323-4C71-BB0F-26F63534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331-A323-4117-ABA4-10539355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2D2-8087-4AB3-84FD-AE8C56F3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D45-1383-4E9E-AEC9-CB525EA9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BCC-9201-4A83-BC0F-0F7DA286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0E2-3FB9-4BC7-8F7B-CDE63C31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F2D-B5BB-4F21-B96D-4F4E3A56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5F4-895A-4E50-8FAF-0604BEAF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BFA-B272-4A42-97D3-6B42E03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358A-B219-4B10-8EA8-4AA7FE522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648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9999"/>
                </a:solidFill>
                <a:latin typeface="Arial"/>
              </a:rPr>
              <a:t>Aristo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9999"/>
                </a:solidFill>
                <a:latin typeface="Arial"/>
              </a:rPr>
              <a:t>23 Jul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is a good citiz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good citizen is also relative to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evertheless, a good citizen must be a free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uld a craftsman or someone engaged in manual work be a truly free 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the good citizen simply a good per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craftsman and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409896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at kinds of regimes (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politeiai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) ex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gimes where the ruler rules in the 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rist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gimes where the ruler rules in the interest of a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yra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ligar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ule of the w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ule of the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1341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x Basic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citizen and the reg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iti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ll free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ly wealthy free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ly on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ly the virt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virtuous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g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ristocracy or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dialogue between the oligarch and the democ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Oligarc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Justice can’t be equality in everything: those who contribute the most must have a greater share of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Democra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the many together may possess as much property as the weal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dialogue between the oligarch and the democ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Oligarc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It is unjust for the many to take away the property of the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Democra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It is not unjust if it is done legally by those who are sove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dialogue between the oligarch and the democ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Oligarc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The many are not able to reach good judgments about political matters, since they are not individually virt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Democra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Wealth is not identical with virtue, and at any rate the many together can reach good judgments about political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s the crowd superior in wisdom to the fe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8242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Under what conditions is the majority superior to the fe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many must not be too vi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re must be some diversity of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ew must not be too superior in virt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s this a defence of democra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56000" y="1125360"/>
            <a:ext cx="362880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structure of the </a:t>
            </a:r>
            <a:r>
              <a:rPr b="0" i="1" lang="en-NZ" sz="44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ok I: The city and its function; the function of other natural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oks II-VI: Imperfect political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ook II: Other People’s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ooks III-VI: Imperfect reg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ok VII-VIII: The best politica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poli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other comm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708280"/>
            <a:ext cx="6985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use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1844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Vill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4360" y="184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141720"/>
            <a:ext cx="201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la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complet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213000"/>
            <a:ext cx="223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Unnecessary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er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goo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ntrast: “Social Contract” 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the city a kind of social contract designed for mutual benefit or mutual def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s not simply an alliance designed for the production or trade of goods or mutual defence (III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goal of the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s to foster the good character and virtue of the citizens, and hence the good life (III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reedom and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ree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ursues his own purposes rather than those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not constrained by the necessitie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ursues another’s purposes and view of th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constrained by the necessitie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on-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29240" cy="4767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city: a second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ok I defines the city in functional terms: a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li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is whatever community ensures the full flourishing of human be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ok III defines the city in terms of its parts: a city is a group of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ree questions about citizen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a citi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o ought to be a citi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a good citi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52360" y="0"/>
            <a:ext cx="10369440" cy="6915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is a citiz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e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meone who can take part in the key judicial and deliberative bodies of a political community: someone who both rules and is ru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meone who meets the legal requirements for citizenship (e.g., someone who is born of citizen par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10333080" cy="6840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o ought to be a citiz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t constitutions or regimes (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liteia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) give different answers to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fferent people are thought to be qualified to rule in different sorts of reg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 the question of who ought to be a citizen reduces to what is the best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olit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22:10:07Z</dcterms:created>
  <dc:creator>Full Name</dc:creator>
  <dc:description/>
  <dc:language>en-US</dc:language>
  <cp:lastModifiedBy>Full Name</cp:lastModifiedBy>
  <dcterms:modified xsi:type="dcterms:W3CDTF">2008-07-22T20:55:11Z</dcterms:modified>
  <cp:revision>9</cp:revision>
  <dc:subject/>
  <dc:title>Aristotle </dc:title>
</cp:coreProperties>
</file>